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93E-2952-43F5-BF0D-A6946ACF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809-1CE5-43A2-BB7F-4ABE988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CFA-FE32-4E0A-B7C6-A4761550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F21-06FB-4E7B-808D-D908624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919-5D84-4D90-8E51-55D7A028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3859-17A8-44CF-BEEE-0DC5CBA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7FA-B091-4125-A178-89F8414A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677-19E8-4D9E-AB01-B03F85FF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EEAB-C6A9-448E-BFA8-A74866D5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AACE-6923-4C83-A2D2-F3BF792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FE0-0A8C-42BC-8071-ACDA184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2DA-106A-4DCE-AB00-58EE2BB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1137-BCC7-4BDD-BA4B-F0E80F9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B50E-C438-4B4A-B09D-479791E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016C-C6A0-43BB-8DC2-BE29EA3F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014-EBCD-49A4-AF21-EFF1B822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B37B-1387-4E27-9293-0D172A04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21C-A531-44E0-B1F8-B3692989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152-9F8C-45B7-90FC-973BFE6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DC0-485E-4272-A751-BFD801D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296-478C-48AD-8518-A8C51EE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249-36A8-4F25-A788-133E396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1BA-1784-4587-8056-A5C0754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9A7-B756-4826-B95B-F17EDA3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ADB-F39C-4A91-94F7-4DA53ACD8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8B5-5046-417B-9672-76A353CAB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escribing Types of Change in Graph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64880"/>
            <a:ext cx="37339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259680" y="4159080"/>
            <a:ext cx="2884320" cy="2698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8520" y="1303200"/>
            <a:ext cx="85755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graphing functions or linear equations, the result will be a line that is created by connecting various solution sets, expressed as points (x,y).  The lines can be described using the following vocabul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reas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Decreas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Verdana"/>
              </a:rPr>
              <a:t>Consta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1480" y="5022720"/>
            <a:ext cx="1820880" cy="151776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30840" y="4946760"/>
            <a:ext cx="928440" cy="1670040"/>
          </a:xfrm>
          <a:prstGeom prst="line">
            <a:avLst/>
          </a:prstGeom>
          <a:ln w="414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69200" y="4719600"/>
            <a:ext cx="2674800" cy="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n’t a line be both increasing and decreasing, depending on how you look at it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great question.  The simple answer is ‘no’ because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ust always read lines from left to r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you us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ject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describe how these two lines are 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78600" y="1608120"/>
            <a:ext cx="3490560" cy="3479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254560" y="4111560"/>
            <a:ext cx="2884680" cy="6066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31200" y="1835280"/>
            <a:ext cx="758880" cy="2733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Tr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5236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whether the line of each color is increasing, decreasing or constant in the graph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)  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) 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)  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,)  p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)  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91080" y="2319480"/>
            <a:ext cx="4552920" cy="45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5103720" y="4946400"/>
            <a:ext cx="1516320" cy="6080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9200" y="3808440"/>
            <a:ext cx="2125440" cy="76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5175360"/>
            <a:ext cx="1820880" cy="151740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99160" y="2670120"/>
            <a:ext cx="4022640" cy="3718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000560" y="2897280"/>
            <a:ext cx="455400" cy="349092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4567320"/>
            <a:ext cx="197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35:51Z</dcterms:created>
  <dc:creator>ccps</dc:creator>
  <dc:description/>
  <dc:language>en-US</dc:language>
  <cp:lastModifiedBy>deanne elizabeth mcgrath</cp:lastModifiedBy>
  <dcterms:modified xsi:type="dcterms:W3CDTF">2011-01-21T19:51:35Z</dcterms:modified>
  <cp:revision>9</cp:revision>
  <dc:subject/>
  <dc:title>The Coordinate Plane</dc:title>
</cp:coreProperties>
</file>